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F8668E-992B-474F-BE54-FF74DEF96D7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69CF98-4DFF-494D-B774-46FFCE8ABB0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B5EF70-FB96-4CD8-B34C-F3E8512CE50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18C064-60BE-4045-921F-3D76D79BFEF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EC3D48-4606-49FC-8E1D-2E16FEC4D90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E4513D-F9BE-4370-A2FB-A1FAA978868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0F0248-AFDE-44A1-ABBF-86075B250AD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2A0F80-3D05-4FFF-A63E-5160D08C4B7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D20A02-8916-4AE3-AA31-DBACB40FAE1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8D3B9-BDE1-442C-A477-310B307557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3FDC3-7007-4B98-8DAA-B48C3DC00AE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B733E-A6ED-4A12-A7E7-1088C69F431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A551D-BEC9-4E80-8C9A-52B50DABB8E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BFED2-205E-4434-965C-295277B63F1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BB798-2B7F-4C51-BA22-8F02FBCB084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37EC1-2C4A-4412-B062-68D43DB0539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6B83E-C939-4487-882A-E1FD8F18B87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39F93-6213-4530-BAE1-01ABE5D6ECC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79E1B-3400-4DE4-A24B-85E4D48A8D5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90AFA-508D-4176-8943-40977E51A4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218EF-6813-43F1-B201-8747DFCC7C5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74E414-0D85-401E-A4CB-78938C04558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2564BF-F9E2-48DE-A6B8-BBC1DA6C3FF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127E86-9FD3-4040-9668-731B22C41D4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BF094A-68C4-426B-B329-28807BF1B34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D3689C-6C1A-4926-BBDD-4B0821663BA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78D42D-0727-44DF-8FC5-F3FFA40A076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66F43D-AC29-47E7-A877-ACC3478DF5E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F0834A-2467-4FA4-8CC7-83D96CB1CC2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A3363D-7EAB-4FEB-8ECE-93456C5B14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4FCBB-5992-4623-A8BE-0154B996E0F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0ED745-E52B-4036-9FF3-EF24E3165C7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545AA3-1843-41AC-8107-B17D41453C9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AFE53F-2F76-4FE3-93F6-2CB8FD321D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31BE8-42E5-4948-8563-8181EBE1E5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B38F1-03F9-4D78-9132-62EDD73A94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2FB28-AC40-45A1-8A7B-761307025D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4F6F1-91B9-4109-B5FC-3BA862E3FA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97385-1CF2-4D46-9379-6C160C7599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40FDA-8117-4C02-9CB9-02BA351518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14A5C-8DB6-40F0-9DA5-75FE0A4941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29CCD-645A-46CF-BBF1-3F72185C21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5F33A-CC5D-413C-B719-96A8EDDFFA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4DD27-D01C-4D6D-83D7-46508843F8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90A22-F584-441D-A51E-77268E5BF3A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7FFC38-997A-4833-9846-D43F8DCE2A1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3A6C93-113F-4FDE-93D9-451599A578B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0483F7-CB01-4703-8690-FCCDF8F306F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0ED72-E567-49A7-AE25-646B0E262D7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06EFEE-A6D9-4F1C-BED9-A46B622B22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5D665D-3BE9-4512-8149-88BA6B9B480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20C499-A868-47D3-8AA2-05BB525C95E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165695-DEFD-4C78-8740-8BAF4CECF65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D3ED3E-28D5-428D-A60C-C3FE3367490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C8186-E35B-4184-B99D-841F2358A6B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B3701D-1B4E-46F5-B1B4-9A76A47A0F5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173C8B-5315-4458-AF7D-38CBECAC866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0D532-9DF5-460B-BDED-010B2B3F246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D47A-4BF9-459B-A23A-8FD28BA87B8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2328-95D9-4940-8B8C-0F6C4320C9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534F7-954B-4EEE-8712-F8F8C98D6E4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BB1A-C23E-4965-A450-832CBCB9E3F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D7CE-30BA-4952-924C-5CBA8739054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8B26-A996-4C5C-A9E3-2CFB5DFAEC0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8E7E-0F5B-4A9C-9E11-3688EB078CE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D3C2F-9019-4BE8-95B5-263BCF6EF07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6DAF-668E-4EF9-B2E1-66D73F488B7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C549-2177-4EE5-82AF-6A65DDCB280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EC96-4D80-4D8B-B68B-5E096D53977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DB3004-6F5A-43AA-A90F-A680EE62A3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6292BA-657F-40D6-A0EC-351E7E08E37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4FDDBD-C3B3-4380-A114-6CDA5B4239F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CB8090-C3EB-4F2D-B16F-8566BA0A09A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381B4C-D315-45E5-B712-6CD6CAF3C47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91577A-8F37-4578-801D-38181B7FB10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449663-D965-4A92-B8D5-2F00B2E98D2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888725-FDA3-4A24-88B7-A1B63719A83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D4B07F-9D63-48D0-AD9E-F812AD25837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8CB93F-F416-471E-9568-9EB98364BF9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32D949-0DF0-4D3C-838C-1A154B0571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505E6B-E6E2-46B8-9A9B-DA88072EC1E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76690C-12D5-459B-8B6F-EDB1EA6EA37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144606-92CD-4527-BF2F-F84B409998E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D395A1-AB87-468E-9836-E1F346A8DCC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207F84-ABC8-4DB2-8BE8-04B08DA2FD6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5AD75B-C1E8-4B1E-972B-49843857491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B9833C-55A2-4030-8809-18C0BBB2558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01A88A-E13F-4DC5-AD7F-5C81F70AC49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1C4E73-E37E-4FC9-AE44-831A54AC317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3B24C6-DB62-41A3-8989-70497F343D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8CD689-3509-42AA-9BB1-9AC28C705C3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C2B45F-AEA8-461E-AD10-58A9C8598FA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9B8B8B-064B-4A5C-A476-50F8D0833D6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DA8F9-9835-407D-B504-AA9C364BDF4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DA80A-3053-4AAC-9703-0DBE00F104A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81054-A107-4554-A9CA-241E17CDDA2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E1DCF-ECA2-4EE9-B32C-73C98B75A56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687A9-4F52-4B90-B159-E4F053424DD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D6FB5-8EBE-455A-93BE-171D39CBCC0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77F79-E7C6-4908-8E5E-C6A0634463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6C277-CB7E-46D4-B4A4-2096D7314B0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09BEB-8887-4969-AB67-526B5B56940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7E517-B449-4956-8EC9-08C0BC89DDF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D36C8-0197-4C2E-9F8C-469F5E3B145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F483A-AEAF-4D50-9F6E-D8A4AD3D077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6E5CF9-0B45-4E82-9711-C2061A5B3EA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536D82-5F37-4ACB-BA11-8700EE3A072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9907BD-CC8A-4640-9EC2-4709333A063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D16DD5-E8BA-4932-BC4E-6FE75C2B99B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C09E52-6597-40E1-BB67-F544645DB6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BBB74D-2592-4353-92B7-E71B8F0B7D3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AD4F28-0E29-4CA4-AC03-92335BD99C4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425825-A1E0-417F-9755-3134D4D2FDD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CDA19D-B17B-4AC7-BCE3-2185E0F3CD3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23BFC7-A193-45B0-B9E1-54B089B415B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E16050-1DCA-4428-B9AD-7EDF22D13A6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E35B06-1BBF-4F2E-B429-23F14BFFF01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2C67CB-F36A-44E7-8864-E3B6F1BD7DD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0880EE-6DB6-41E6-BFCC-07AFD48BB26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7CFAE4-70AF-4594-9EDA-401C62F33A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ftr" idx="17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ldNum" idx="18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A78F-590E-4F09-9DBC-42EA7CC10F19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ftr" idx="19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ldNum" idx="20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3FB9-9699-41AC-B7CB-1423E282FBB6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ftr" idx="1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5BD7-9524-4273-B1CB-A80F02DA1C8F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ftr" idx="3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4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DC3F-BC00-4996-BD7F-390A38DF626B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ftr" idx="5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Num" idx="6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D7BA-0B9B-4E5C-98B0-802E2FA276B8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ftr" idx="7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ldNum" idx="8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35CE-E7A6-4CA0-A85B-3DEFF23AD05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ftr" idx="9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ldNum" idx="10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CE29-E101-444F-A6B9-C1D197CD64B0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6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ftr" idx="11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ldNum" idx="12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925D-795B-43E9-8982-5845810CDD63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9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ftr" idx="13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ldNum" idx="14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CEF4-FAAF-4057-9711-E4ACCE5087A6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ftr" idx="15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ldNum" idx="16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8DE0-2292-47A7-B65B-168F196661C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2"/>
          <p:cNvSpPr/>
          <p:nvPr/>
        </p:nvSpPr>
        <p:spPr>
          <a:xfrm>
            <a:off x="539640" y="1341360"/>
            <a:ext cx="8215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rso: </a:t>
            </a:r>
            <a:r>
              <a:rPr b="1" lang="it-IT" sz="2000" spc="-1" strike="noStrike">
                <a:solidFill>
                  <a:srgbClr val="ff3300"/>
                </a:solidFill>
                <a:latin typeface="Verdana"/>
              </a:rPr>
              <a:t>Biomateriali per dispositivi protesic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ocente: Prof. Enrico Sandrin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emestre: 1°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ingua di erogazione: italian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° max studenti ammessi:120 Polimi + 10 Erasmu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odalità d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same per non frequentanti: S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1005480" y="158760"/>
            <a:ext cx="656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orsi a scelta di Area Tematico-Strumental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 Livello – 5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Rectangle 2"/>
          <p:cNvSpPr/>
          <p:nvPr/>
        </p:nvSpPr>
        <p:spPr>
          <a:xfrm>
            <a:off x="539640" y="3500280"/>
            <a:ext cx="8280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L’insegnamento vuol fornire in primo luogo le principali conoscenze di base sui biomateriali per dispositivi protesici e sulla biocompatibilità.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Saranno in particolare esaminati i requisiti funzionali richiesti ai materiali per la realizzazione di dispositivi protesici nel campo dell’ortopedia, dell’odontoiatria, del cardiovascolare, dell’oftalmologia e dell’ingegneria dei tessuti e di alcune classi di dispositivi medici. 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3"/>
          <p:cNvSpPr/>
          <p:nvPr/>
        </p:nvSpPr>
        <p:spPr>
          <a:xfrm>
            <a:off x="1005480" y="158760"/>
            <a:ext cx="656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orsi a scelta di Area Tematico-Strumental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 Livello – 5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Rectangle 2"/>
          <p:cNvSpPr/>
          <p:nvPr/>
        </p:nvSpPr>
        <p:spPr>
          <a:xfrm>
            <a:off x="468360" y="1268280"/>
            <a:ext cx="83516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99"/>
                </a:solidFill>
                <a:latin typeface="Arial"/>
              </a:rPr>
              <a:t>Saranno inoltre esaminati i criteri di progettazione e le tecnologie produttive tradizionali ed innovative utilizzate nel settore biomedicale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99"/>
                </a:solidFill>
                <a:latin typeface="Verdana"/>
              </a:rPr>
              <a:t>Saranno presentate con dei casi pratici le evoluzioni nel design dei dispositivi e l’impatto del concetto di ergonomia sui moderni dispositivi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99"/>
                </a:solidFill>
                <a:latin typeface="Arial"/>
              </a:rPr>
              <a:t>Saranno presentati in modo generale le criticità dei diversi segmenti del mercato e la loro evoluzione a partire dall’inizio degli anni ’90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99"/>
                </a:solidFill>
                <a:latin typeface="Arial"/>
              </a:rPr>
              <a:t>Saranno presentate le prospettive dei diversi segmenti sui diversi mercati e le potenzialità dell’industria di settore attraverso esposizione di casi reali e ricerche di mercato per permettere allo studente di inquadrare in modo globale le problematiche in termini di mercato, di materiali, di design e tecnologie di un settore dell’industria tra i più critici per impatto sui sistemi sanitari nazionali e sui pazienti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8T13:48:10Z</dcterms:created>
  <dc:creator>Silvia</dc:creator>
  <dc:description/>
  <dc:language>en-US</dc:language>
  <cp:lastModifiedBy>Utente</cp:lastModifiedBy>
  <cp:lastPrinted>2003-05-08T11:08:41Z</cp:lastPrinted>
  <dcterms:modified xsi:type="dcterms:W3CDTF">2014-09-01T07:09:18Z</dcterms:modified>
  <cp:revision>210</cp:revision>
  <dc:subject/>
  <dc:title>Inserire immagine della locandina, possibilmente in trasparenza e aggiungere Facoltà di Architettura Illustrazione prova di ammissione prof. Silvia Piardi (idem Cedolin)</dc:title>
</cp:coreProperties>
</file>